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4C6-9B1C-4B16-9BF5-F10771A9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392-F3AB-423B-948A-C81F15C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49F-4E1C-40D2-B02E-ED3AC6BB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F76-8154-4756-A5BF-8CA8D42A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0E9A-E05A-4E65-9463-FA3F22D8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F13D-F8F7-4016-A3D1-D765EA6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4ECD-696F-4591-AB90-8EAE66A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C095-16D2-4AC3-87B3-F93FF30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55CA-563D-4031-BAFF-7487774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C290-193F-4240-A4DA-9EC72A2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8E1-3E09-4ACD-A6E1-CEB3D57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6C9-CE30-4A29-A1A4-5EB8DE4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7CED-E9D6-4403-AF46-342AD5A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6A1-870E-433C-B8FF-C8E13B3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2269-3BD9-468D-815E-C874BCE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CF2-C4CF-4B74-BEB7-E1DAB996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A1A9-FEE3-4B88-B796-F0586227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EDC-EA40-42E4-9C94-024400D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5F9-D6CF-4092-BC4C-39D539A7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DDE-333B-4FB6-B85D-BD62E948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CD4-02CD-4F4B-836E-164D295D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315-7E75-423E-AADE-B717FB0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CE4-E7FB-4B83-A3E2-EF9A40D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B5A-7BC9-4A07-824E-BF74DE6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8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dd89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9436-D87D-4C75-99BC-48924020680F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125360"/>
            <a:ext cx="8077320" cy="0"/>
          </a:xfrm>
          <a:prstGeom prst="line">
            <a:avLst/>
          </a:prstGeom>
          <a:ln w="19080">
            <a:solidFill>
              <a:srgbClr val="ffd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d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d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8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E80-3A4C-4E28-BE5B-338909F990A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700" spc="-1" strike="noStrike">
                <a:solidFill>
                  <a:srgbClr val="ffdd89"/>
                </a:solidFill>
                <a:latin typeface="Impact"/>
              </a:rPr>
              <a:t>El Nacimiento de Occidente </a:t>
            </a:r>
            <a:endParaRPr b="0" lang="en-US" sz="4700" spc="-1" strike="noStrike">
              <a:solidFill>
                <a:srgbClr val="ffdd89"/>
              </a:solidFill>
              <a:latin typeface="Impact"/>
            </a:endParaRPr>
          </a:p>
        </p:txBody>
      </p:sp>
      <p:pic>
        <p:nvPicPr>
          <p:cNvPr id="91" name="Picture 7" descr="edad-media-scriptorium"/>
          <p:cNvPicPr/>
          <p:nvPr/>
        </p:nvPicPr>
        <p:blipFill>
          <a:blip r:embed="rId1"/>
          <a:stretch/>
        </p:blipFill>
        <p:spPr>
          <a:xfrm>
            <a:off x="2411280" y="3500280"/>
            <a:ext cx="4286520" cy="2571840"/>
          </a:xfrm>
          <a:prstGeom prst="rect">
            <a:avLst/>
          </a:prstGeom>
          <a:ln w="76320">
            <a:solidFill>
              <a:srgbClr val="ffdd89"/>
            </a:solidFill>
            <a:miter/>
          </a:ln>
        </p:spPr>
      </p:pic>
      <p:sp>
        <p:nvSpPr>
          <p:cNvPr id="92" name="3 Rectángulo"/>
          <p:cNvSpPr/>
          <p:nvPr/>
        </p:nvSpPr>
        <p:spPr>
          <a:xfrm>
            <a:off x="3370680" y="6286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Verdana"/>
              </a:rPr>
              <a:t>Beatriz Bustama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0C24-FEDD-4E2D-B10F-68319024635E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Universidad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s escuelas catedralicias (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tedrales de la sabiduría”)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dieron origen a la más importante institución cultural de la Edad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Universitas = comunidad organizada con cualquier f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image"/>
          <p:cNvPicPr/>
          <p:nvPr/>
        </p:nvPicPr>
        <p:blipFill>
          <a:blip r:embed="rId1"/>
          <a:stretch/>
        </p:blipFill>
        <p:spPr>
          <a:xfrm>
            <a:off x="3203640" y="3284640"/>
            <a:ext cx="3527280" cy="27939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684360" y="3429000"/>
            <a:ext cx="1871640" cy="2448000"/>
          </a:xfrm>
          <a:prstGeom prst="rect">
            <a:avLst/>
          </a:prstGeom>
          <a:gradFill rotWithShape="0">
            <a:gsLst>
              <a:gs pos="0">
                <a:srgbClr val="fff4d7"/>
              </a:gs>
              <a:gs pos="100000">
                <a:srgbClr val="ffdd8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334c00"/>
                </a:solidFill>
                <a:latin typeface="Arial Narrow"/>
              </a:rPr>
              <a:t>Profesores</a:t>
            </a:r>
            <a:r>
              <a:rPr b="0" lang="es-PE" sz="1800" spc="-1" strike="noStrike">
                <a:solidFill>
                  <a:srgbClr val="334c00"/>
                </a:solidFill>
                <a:latin typeface="Arial Narrow"/>
              </a:rPr>
              <a:t> unidos para defender sus intereses y la disciplina de los estudios, de quien quisiera ejercer sobre ellos un dominio excesiv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380360" y="4149720"/>
            <a:ext cx="1295280" cy="1008000"/>
          </a:xfrm>
          <a:prstGeom prst="rect">
            <a:avLst/>
          </a:prstGeom>
          <a:gradFill rotWithShape="0">
            <a:gsLst>
              <a:gs pos="0">
                <a:srgbClr val="fff4d7"/>
              </a:gs>
              <a:gs pos="100000">
                <a:srgbClr val="ffdd8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334c00"/>
                </a:solidFill>
                <a:latin typeface="Arial Narrow"/>
              </a:rPr>
              <a:t>Estudiantes</a:t>
            </a:r>
            <a:r>
              <a:rPr b="0" lang="es-PE" sz="1800" spc="-1" strike="noStrike">
                <a:solidFill>
                  <a:srgbClr val="334c00"/>
                </a:solidFill>
                <a:latin typeface="Arial Narrow"/>
              </a:rPr>
              <a:t> unidos para protege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2B7-CCA4-408B-9BA1-4A4C070B291B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Universidad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radualmente el término se aplicó a las universidades de profesores y estudiantes, pasando de la escuela catedralicia a la Universidad como institución autóno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s más antiguas: Universidad de Paris, Universidad de Bolonia, Universidad de Oxford, Universidad de Cambri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s primeras facultades: Derecho, Medicina, Teolog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Universidad%20de%20Bolonia"/>
          <p:cNvPicPr/>
          <p:nvPr/>
        </p:nvPicPr>
        <p:blipFill>
          <a:blip r:embed="rId1"/>
          <a:stretch/>
        </p:blipFill>
        <p:spPr>
          <a:xfrm>
            <a:off x="2989440" y="4508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OxfordCrest"/>
          <p:cNvPicPr/>
          <p:nvPr/>
        </p:nvPicPr>
        <p:blipFill>
          <a:blip r:embed="rId2"/>
          <a:stretch/>
        </p:blipFill>
        <p:spPr>
          <a:xfrm>
            <a:off x="5076720" y="4508640"/>
            <a:ext cx="1505160" cy="180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Cambrdge1"/>
          <p:cNvPicPr/>
          <p:nvPr/>
        </p:nvPicPr>
        <p:blipFill>
          <a:blip r:embed="rId3"/>
          <a:srcRect l="-4875" t="-3901" r="-3364" b="0"/>
          <a:stretch/>
        </p:blipFill>
        <p:spPr>
          <a:xfrm>
            <a:off x="6877080" y="4508640"/>
            <a:ext cx="1500120" cy="1798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"/>
          <p:cNvPicPr/>
          <p:nvPr/>
        </p:nvPicPr>
        <p:blipFill>
          <a:blip r:embed="rId4"/>
          <a:stretch/>
        </p:blipFill>
        <p:spPr>
          <a:xfrm>
            <a:off x="1117440" y="4508640"/>
            <a:ext cx="15876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09C-19E5-4FF7-AC09-E4E876765E93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Universidad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os privilegios, las exenciones y las inmunidades cuya conquista fuera la razón de vivir de las universidades, porque sin ellos no hubieran podido ejercer su independencia de crítica e investigación, contribuyeron a consolidar su prestig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ACC_1967_198_199_3"/>
          <p:cNvPicPr/>
          <p:nvPr/>
        </p:nvPicPr>
        <p:blipFill>
          <a:blip r:embed="rId1"/>
          <a:srcRect l="2257" t="0" r="0" b="0"/>
          <a:stretch/>
        </p:blipFill>
        <p:spPr>
          <a:xfrm>
            <a:off x="5508720" y="981000"/>
            <a:ext cx="3165480" cy="54388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7F0-3808-4AEA-9F2A-DBC97AA1A2FA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ara la escolástica la verdad está revelada, no se propone encontrar la verdad pues ya ha sido revel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u fin es lograr que el hombre entienda la verdad (conciliar fe y razón = sumisión de la razón a la f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bibliasanmillan"/>
          <p:cNvPicPr/>
          <p:nvPr/>
        </p:nvPicPr>
        <p:blipFill>
          <a:blip r:embed="rId1"/>
          <a:srcRect l="0" t="5298" r="0" b="4636"/>
          <a:stretch/>
        </p:blipFill>
        <p:spPr>
          <a:xfrm>
            <a:off x="5796000" y="2997360"/>
            <a:ext cx="2857320" cy="36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290px-BibliaPauperum"/>
          <p:cNvPicPr/>
          <p:nvPr/>
        </p:nvPicPr>
        <p:blipFill>
          <a:blip r:embed="rId2"/>
          <a:stretch/>
        </p:blipFill>
        <p:spPr>
          <a:xfrm>
            <a:off x="5796000" y="2924280"/>
            <a:ext cx="27622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ECAC-236D-4628-AB96-106B05E37764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Carece del sentido de historicidad, colocando en un mismo plano a los filósofos más distantes sirviéndose de sus doctrinas para sus propios f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os intentos de astrólogos, alquimistas y magos por ponerse en contacto con la naturaleza, se conden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tasa_mago"/>
          <p:cNvPicPr/>
          <p:nvPr/>
        </p:nvPicPr>
        <p:blipFill>
          <a:blip r:embed="rId1"/>
          <a:stretch/>
        </p:blipFill>
        <p:spPr>
          <a:xfrm>
            <a:off x="3059280" y="3645000"/>
            <a:ext cx="3695400" cy="277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stronomer"/>
          <p:cNvPicPr/>
          <p:nvPr/>
        </p:nvPicPr>
        <p:blipFill>
          <a:blip r:embed="rId2"/>
          <a:srcRect l="2395" t="2082" r="0" b="0"/>
          <a:stretch/>
        </p:blipFill>
        <p:spPr>
          <a:xfrm>
            <a:off x="3564000" y="3573360"/>
            <a:ext cx="2722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E529-E87E-421B-BF2A-3DBB4C81D24E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Durante la segunda escolástica o alta escolástica, mediados del siglo IX a fines del siglo XII, fe y razón se consideran en perfecta armon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scolástica incentivó la especulación y el razonamiento, pues suponía someterse a un rígido armazón lógico y una estructura esquemática del discurso que debía exponerse a refutaciones y preparar defen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D496-56C6-4F31-8E1B-F26754D94EEA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siglo XII tiene lugar la recepción de textos de Aristóteles antes desconocidos en Occidente, así como la i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ncorporación de nuevos elementos provenientes de las filosofías árabe y jud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Tomás de Aquino, Buenaventura, Duns Esco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San+Buenaventura"/>
          <p:cNvPicPr/>
          <p:nvPr/>
        </p:nvPicPr>
        <p:blipFill>
          <a:blip r:embed="rId1"/>
          <a:stretch/>
        </p:blipFill>
        <p:spPr>
          <a:xfrm>
            <a:off x="3924360" y="3500280"/>
            <a:ext cx="16286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tomas_de_aquino1"/>
          <p:cNvPicPr/>
          <p:nvPr/>
        </p:nvPicPr>
        <p:blipFill>
          <a:blip r:embed="rId2"/>
          <a:stretch/>
        </p:blipFill>
        <p:spPr>
          <a:xfrm>
            <a:off x="826920" y="3573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dunsscoto"/>
          <p:cNvPicPr/>
          <p:nvPr/>
        </p:nvPicPr>
        <p:blipFill>
          <a:blip r:embed="rId3"/>
          <a:srcRect l="4144" t="2886" r="3948" b="3330"/>
          <a:stretch/>
        </p:blipFill>
        <p:spPr>
          <a:xfrm>
            <a:off x="6372360" y="357336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601-5A4E-4F43-9190-092BEE2F8D9C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Edad Medi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íodo histórico de la civilización occidental comprendido entre los siglos V y  X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39640" y="2781360"/>
            <a:ext cx="3600720" cy="720720"/>
          </a:xfrm>
          <a:prstGeom prst="flowChartPunchedCard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76, caída del Imperio Romano de Occid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5148360" y="2708280"/>
            <a:ext cx="3673440" cy="720720"/>
          </a:xfrm>
          <a:prstGeom prst="flowChartPunchedCard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492, descubrimiento de Amér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148360" y="2708280"/>
            <a:ext cx="3671640" cy="720720"/>
          </a:xfrm>
          <a:prstGeom prst="flowChartPunchedCard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453, caída del Imperio Bizantino, invención de la imprent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11" descr="invasion-full"/>
          <p:cNvPicPr/>
          <p:nvPr/>
        </p:nvPicPr>
        <p:blipFill>
          <a:blip r:embed="rId1"/>
          <a:stretch/>
        </p:blipFill>
        <p:spPr>
          <a:xfrm>
            <a:off x="611280" y="3835440"/>
            <a:ext cx="3529080" cy="27874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00" name="Picture 13" descr="r_colon_toma_posesion"/>
          <p:cNvPicPr/>
          <p:nvPr/>
        </p:nvPicPr>
        <p:blipFill>
          <a:blip r:embed="rId2"/>
          <a:stretch/>
        </p:blipFill>
        <p:spPr>
          <a:xfrm>
            <a:off x="5148360" y="3860640"/>
            <a:ext cx="3673440" cy="27766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01" name="Picture 15" descr="20070712klphishes_3"/>
          <p:cNvPicPr/>
          <p:nvPr/>
        </p:nvPicPr>
        <p:blipFill>
          <a:blip r:embed="rId3"/>
          <a:stretch/>
        </p:blipFill>
        <p:spPr>
          <a:xfrm>
            <a:off x="5580000" y="3860640"/>
            <a:ext cx="2735280" cy="27147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75F3-E8A4-4941-A7C5-6810329B80BA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persión del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piramide medieval"/>
          <p:cNvPicPr/>
          <p:nvPr/>
        </p:nvPicPr>
        <p:blipFill>
          <a:blip r:embed="rId1"/>
          <a:stretch/>
        </p:blipFill>
        <p:spPr>
          <a:xfrm>
            <a:off x="1619280" y="2265480"/>
            <a:ext cx="6438960" cy="4548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AD58-3C95-49D0-8CD7-BD824CAE91A1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Economía basada en el trueque (producción feud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Condiciones de vida difíciles reducen la cultura casi a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bsorción y sustitución de la cultura clásica por las teocént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oblación casi analfab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pobre_1"/>
          <p:cNvPicPr/>
          <p:nvPr/>
        </p:nvPicPr>
        <p:blipFill>
          <a:blip r:embed="rId1"/>
          <a:stretch/>
        </p:blipFill>
        <p:spPr>
          <a:xfrm>
            <a:off x="5580000" y="2781360"/>
            <a:ext cx="3052800" cy="3378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FA34-B831-4891-8B41-8E92BF2B63AC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entro de las preocupaciones humanas fue Dios y hacia él debían dirigirse todas sus acciones para lograr una vida virtuo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hombre lleva en su esencia el pecado original, tiene derecho a una vida plena sólo en el más allá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ultura de la época estaba en manos del clero, responsable de la reconstrucción cul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nepotismo-3838"/>
          <p:cNvPicPr/>
          <p:nvPr/>
        </p:nvPicPr>
        <p:blipFill>
          <a:blip r:embed="rId1"/>
          <a:srcRect l="0" t="27020" r="0" b="7171"/>
          <a:stretch/>
        </p:blipFill>
        <p:spPr>
          <a:xfrm>
            <a:off x="5651640" y="3068640"/>
            <a:ext cx="3166920" cy="3205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B63-0F1A-4FA9-A91F-B2933EB86036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búsqueda de la verdad científica no era necesaria ante la existencia de la única verdad posible: la revelada por el Cre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la libre expresión de las ideas fue coartado al punto tal, que muchos que se atrevieron a ejercerlo terminaron condenados por los Tribunales de la Inquisi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gal_5291"/>
          <p:cNvPicPr/>
          <p:nvPr/>
        </p:nvPicPr>
        <p:blipFill>
          <a:blip r:embed="rId1"/>
          <a:stretch/>
        </p:blipFill>
        <p:spPr>
          <a:xfrm>
            <a:off x="2843280" y="3500280"/>
            <a:ext cx="4010040" cy="30178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18" name="Picture 7" descr="161701"/>
          <p:cNvPicPr/>
          <p:nvPr/>
        </p:nvPicPr>
        <p:blipFill>
          <a:blip r:embed="rId2"/>
          <a:srcRect l="10810" t="5785" r="9287" b="4775"/>
          <a:stretch/>
        </p:blipFill>
        <p:spPr>
          <a:xfrm>
            <a:off x="3059280" y="3500280"/>
            <a:ext cx="3600360" cy="30164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19" name="Picture 9" descr="suplicederoue1"/>
          <p:cNvPicPr/>
          <p:nvPr/>
        </p:nvPicPr>
        <p:blipFill>
          <a:blip r:embed="rId3"/>
          <a:srcRect l="0" t="6624" r="0" b="7328"/>
          <a:stretch/>
        </p:blipFill>
        <p:spPr>
          <a:xfrm>
            <a:off x="3276720" y="3500280"/>
            <a:ext cx="2949480" cy="30974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3F4-6BB1-4DCF-BFD8-4815ECA90CDA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mundo cristiano, y un pensamiento cristiano, pusieron al hombre y sus ideas, de rodillas ante D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siglo XI se organizaron las Cruzadas, contra los turcos que impedían los peregrinajes hacia Tierra Santa, y así en nombre de la fe, se gestaron luchas encarnizadas contra los infieles, con el fin de unificar la cristian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edad_media"/>
          <p:cNvPicPr/>
          <p:nvPr/>
        </p:nvPicPr>
        <p:blipFill>
          <a:blip r:embed="rId1"/>
          <a:srcRect l="1732" t="4551" r="2705" b="2349"/>
          <a:stretch/>
        </p:blipFill>
        <p:spPr>
          <a:xfrm>
            <a:off x="2700360" y="3716280"/>
            <a:ext cx="4032360" cy="2952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24" name="Picture 5" descr="medievalcaballero1"/>
          <p:cNvPicPr/>
          <p:nvPr/>
        </p:nvPicPr>
        <p:blipFill>
          <a:blip r:embed="rId2"/>
          <a:stretch/>
        </p:blipFill>
        <p:spPr>
          <a:xfrm>
            <a:off x="6084720" y="3573360"/>
            <a:ext cx="2333880" cy="30481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C1C-8CCE-403F-A1A8-4C0A72B65072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cia el siglo XI el Papa concedió a las más importantes escuelas catedralicias el derecho de conceder una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icentia ubique docend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habilitaba para enseñar dondequi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180px-Philo_mediev"/>
          <p:cNvPicPr/>
          <p:nvPr/>
        </p:nvPicPr>
        <p:blipFill>
          <a:blip r:embed="rId1"/>
          <a:stretch/>
        </p:blipFill>
        <p:spPr>
          <a:xfrm>
            <a:off x="2987640" y="2997360"/>
            <a:ext cx="3672000" cy="33858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29" name="Picture 6" descr="vestimenta-de-la-edad-media"/>
          <p:cNvPicPr/>
          <p:nvPr/>
        </p:nvPicPr>
        <p:blipFill>
          <a:blip r:embed="rId2"/>
          <a:stretch/>
        </p:blipFill>
        <p:spPr>
          <a:xfrm>
            <a:off x="3203640" y="2852640"/>
            <a:ext cx="3305160" cy="3745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D50-3960-4EAE-83A2-C142147ADD4A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Educación Caballeres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Aprender el oficio de las armas para escalar so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Ética del honor, fidelidad al señ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 Iglesia procura transformar la caballería en una institución: “protectores de los inermes frente a la arbitrariedad de los violent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la-sociedad-edad-media"/>
          <p:cNvPicPr/>
          <p:nvPr/>
        </p:nvPicPr>
        <p:blipFill>
          <a:blip r:embed="rId1"/>
          <a:stretch/>
        </p:blipFill>
        <p:spPr>
          <a:xfrm>
            <a:off x="2411280" y="3429000"/>
            <a:ext cx="4551480" cy="32180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1:53:51Z</dcterms:created>
  <dc:creator>Dirección de Sistemas</dc:creator>
  <dc:description/>
  <dc:language>en-US</dc:language>
  <cp:lastModifiedBy>Gerardo Lazaro</cp:lastModifiedBy>
  <dcterms:modified xsi:type="dcterms:W3CDTF">2009-04-23T00:52:30Z</dcterms:modified>
  <cp:revision>34</cp:revision>
  <dc:subject/>
  <dc:title>El Nacimiento de Occidente </dc:title>
</cp:coreProperties>
</file>